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3CA7-5CD9-4F24-A1AF-FA03086FB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14240" y="420696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08B2-D158-4D41-B941-FAC3CD7F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514240" y="42069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637960" y="42069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0D3B-3CFC-45EF-9D6F-707BF1FE4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5600" y="20574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36600" y="20574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514240" y="42069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575600" y="42069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36600" y="42069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53CC-200F-4B22-8AA3-1E97A4B06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F8894-3ECE-4C6F-937F-B0CF28D54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514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4E8C-C525-4B42-9909-4B454892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DBC8-2DB4-474F-B0D4-EF10F0BB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42B0-49EF-408A-AA61-6E032700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92B2-0BE1-4DAC-9C36-3E61F5D9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667D-7013-42F3-B061-4A8E9286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514240" y="42069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CA96-DBDF-4575-911E-7DEB7E94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514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BEAE-C396-48E7-BBCC-F6B346B6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37960" y="42069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C435-3F70-4CC3-85B0-55E96A21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14240" y="420696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6236-B455-4BC4-90B3-C5FB2DB1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14240" y="420696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A76F5-2334-4C85-B8A2-8B3AA249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514240" y="42069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37960" y="42069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ACBE-0436-4D11-96B9-AB5C97B74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5600" y="20574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36600" y="20574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514240" y="42069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575600" y="42069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36600" y="42069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08E70-BF66-47BB-B6C4-C5C9D8A15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F7CA-9303-4A59-982B-6DFB371E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C752-586C-45B2-9BED-9297B58E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9EAE-2C63-418D-9760-7649E131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7C97-7D0C-4587-991B-9497361C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514240" y="42069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B7B3-9921-46D7-88F8-8F3DEFDA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637960" y="42069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37AD-B92D-4714-9905-3572BC70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514240" y="420696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6711-3019-4EFF-8217-19C48DC4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14240" y="2057400"/>
            <a:ext cx="60958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004160" y="64990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Jump to first pag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2280" y="55627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51920" y="5866920"/>
            <a:ext cx="2590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0F09-EC97-44BA-B490-AD4A151336CC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00120" y="170820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780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66"/>
                </a:solidFill>
                <a:latin typeface="Comic Sans MS"/>
              </a:rPr>
              <a:t>Click to edit the title text format</a:t>
            </a:r>
            <a:endParaRPr b="1" lang="en-US" sz="66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46" name="">
            <a:hlinkClick r:id="" action="ppaction://hlinkshowjump?jump=firstslide"/>
          </p:cNvPr>
          <p:cNvSpPr/>
          <p:nvPr/>
        </p:nvSpPr>
        <p:spPr>
          <a:xfrm>
            <a:off x="7004160" y="64990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Jump to first pag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152280" y="5486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151920" y="5791320"/>
            <a:ext cx="26672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052D-6E31-4265-906F-DABDE6EAF0C3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6248160" cy="16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66"/>
                </a:solidFill>
                <a:latin typeface="Comic Sans MS"/>
              </a:rPr>
              <a:t>Geologic Time</a:t>
            </a:r>
            <a:endParaRPr b="1" lang="en-US" sz="66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520" y="2437920"/>
            <a:ext cx="6858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3654720" y="2209680"/>
            <a:ext cx="261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Comic Sans MS"/>
              </a:rPr>
              <a:t>Chapter</a:t>
            </a:r>
            <a:r>
              <a:rPr b="1" lang="en-U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66"/>
                </a:solidFill>
                <a:latin typeface="Comic Sans MS"/>
              </a:rPr>
              <a:t>34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66"/>
                </a:solidFill>
                <a:latin typeface="Arial"/>
              </a:rPr>
              <a:t>Principles of relative dating</a:t>
            </a: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14240" y="2057040"/>
            <a:ext cx="609588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Unconformity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An unconformity is a break in the rock record produced by erosion and/or nondeposition of rock layer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Sketch of an unconformity: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752480" y="1905120"/>
            <a:ext cx="6096240" cy="264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1752480" y="3200400"/>
            <a:ext cx="60984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Geological events of an unconformity: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2971800" cy="133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80880" y="3962520"/>
            <a:ext cx="2971800" cy="1384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4800600" y="1447920"/>
            <a:ext cx="2971800" cy="124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223920" y="2743200"/>
            <a:ext cx="376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1. Sedimentation / deposi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nd lithifica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8360" y="5410080"/>
            <a:ext cx="32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2. Deformation / folding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nd eros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45800" y="2819520"/>
            <a:ext cx="413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3. Subsidence, water is cover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5334120"/>
            <a:ext cx="425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4. More sedimentation happened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once covered with wa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4724280" y="4038480"/>
            <a:ext cx="2971800" cy="129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blinds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Unconformity in rocks: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381880" cy="3886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3" name=""/>
          <p:cNvSpPr/>
          <p:nvPr/>
        </p:nvSpPr>
        <p:spPr>
          <a:xfrm>
            <a:off x="1446840" y="5791320"/>
            <a:ext cx="64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Angular unconformity at Siccar Point, Scotlan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8108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Dating rocks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133360" y="1828800"/>
            <a:ext cx="6095880" cy="32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Relative dating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ompare events and put them in order based on their sequence of formation, oldest to youngest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Absolute dating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Using radioactive decay to determine the exact age of rock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128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Arial"/>
              </a:rPr>
              <a:t>The Geologic Time Scale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145360" y="62856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p. 18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12920" y="720720"/>
            <a:ext cx="8731080" cy="6137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767120" y="120024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Times New Roman"/>
              </a:rPr>
              <a:t>Cenozo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69280" y="240048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Times New Roman"/>
              </a:rPr>
              <a:t>Mesozo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71800" y="445788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Times New Roman"/>
              </a:rPr>
              <a:t>Paleozo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6206600">
            <a:off x="-198360" y="348768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Times New Roman"/>
              </a:rPr>
              <a:t>Precambrian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0" y="1657440"/>
            <a:ext cx="98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66"/>
                </a:solidFill>
                <a:uFillTx/>
                <a:latin typeface="Times New Roman"/>
              </a:rPr>
              <a:t>Phanerozoic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0680" y="5886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Geologic Time Scale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14240" y="2057040"/>
            <a:ext cx="6095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Geologists have divided the earth’s history into various eras, periods and epochs using fossil evidence (which life forms lived when)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The chart has been updated many times as more fossil evidence is located 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i="1" lang="en-US" sz="4400" spc="-1" strike="noStrike">
                <a:solidFill>
                  <a:srgbClr val="ffff66"/>
                </a:solidFill>
                <a:latin typeface="Arial"/>
              </a:rPr>
              <a:t>Principles of relative dating</a:t>
            </a: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Law of superposition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In an undisturbed sequence of sedimentary rocks the oldest rocks are on the bottom, youngest on top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60320" y="887400"/>
            <a:ext cx="7621560" cy="5081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354480" y="76212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Law of superposi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i="1" lang="en-US" sz="4400" spc="-1" strike="noStrike">
                <a:solidFill>
                  <a:srgbClr val="ffff66"/>
                </a:solidFill>
                <a:latin typeface="Arial"/>
              </a:rPr>
              <a:t>Principles of relative dating</a:t>
            </a: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609588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rinciple of original horizontality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Layers of sediment are generally deposited in a horizontal, flat-lying positio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Rock layers that are flat have not been disturbed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i="1" lang="en-US" sz="4400" spc="-1" strike="noStrike">
                <a:solidFill>
                  <a:srgbClr val="ffff66"/>
                </a:solidFill>
                <a:latin typeface="Arial"/>
              </a:rPr>
              <a:t>Principles of relative dating</a:t>
            </a: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11480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Principle of cross-cutting relationships</a:t>
            </a:r>
            <a:endParaRPr b="0" lang="en-US" sz="2400" spc="-1" strike="noStrike">
              <a:solidFill>
                <a:srgbClr val="3366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Younger features cut across older featur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A fault or dike that cuts across sedimentary layers is younger than the layer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495680" y="2286000"/>
            <a:ext cx="4648320" cy="2192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4419720" y="441972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Igneous dikes cutting across metamorphic rock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66"/>
                </a:solidFill>
                <a:latin typeface="Arial"/>
              </a:rPr>
              <a:t>Principles of relative dating</a:t>
            </a: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60958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Included Fragments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An inclusion is a piece of rock that is enclosed within another rock (2 examples: xenolith and pebble in conglomerate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Rock containing the inclusion is younger, the inclusion is older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2T22:01:23Z</dcterms:created>
  <dc:creator>Mian Liu</dc:creator>
  <dc:description/>
  <dc:language>en-US</dc:language>
  <cp:lastModifiedBy>Teena Della</cp:lastModifiedBy>
  <cp:lastPrinted>1999-08-23T22:27:22Z</cp:lastPrinted>
  <dcterms:modified xsi:type="dcterms:W3CDTF">2004-05-23T23:18:50Z</dcterms:modified>
  <cp:revision>67</cp:revision>
  <dc:subject/>
  <dc:title>Principles of Geology</dc:title>
</cp:coreProperties>
</file>